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BC5-42E1-42A1-8F78-4C8BA47E59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Times New Roman"/>
              </a:rPr>
              <a:t>МУЗЫКА НАЧАЛА Х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6337-ACBF-4CF9-A1AA-E4A9889595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8CD8-A4F2-4ACD-A508-6EB69E794F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2BEE-959C-44AC-B92E-E6E2D7868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0370-71B3-48A4-B645-6544014164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77AB-DCDF-4C45-8E86-04F603AD8E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8A06-19BA-4FA9-9810-7CF7EBCF42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B665-E704-4629-B8B2-BDFFF6409E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ED9-6FAC-4DA2-882E-A3DBBA0F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0C5-6B23-4E63-ACB7-B1D45904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C4F-66C3-4E0A-9B8E-F9D45579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F74-D3C0-4517-90E3-9B271563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89A-BEC4-4E1B-948F-8DBD44A4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7B9-2064-4A7A-9441-0005953E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351-1341-4FB9-8BE2-A4D9EBFC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52B-0E14-40D8-B37D-A0F1E9B6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E12-C7C6-4ECD-B82E-03B770A5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8DF-8FA7-48CF-9FF3-170041CC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23E-E801-4E41-9630-BD12EB5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8A8-A735-4A37-9FC9-F89C0C6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A50-02C5-4C21-A73F-4A58BD3AD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МУЗЫКА НАЧАЛА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67280" y="5410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7960" y="228600"/>
            <a:ext cx="430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т на земле живого су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оль жестокого, крутого, адски зл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тоб не могла, хоть на час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нём музыка свершить переворота...”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ильям Шекспир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914560" cy="33339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28600" y="230760"/>
            <a:ext cx="7086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228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82060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50436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мский-корсаков"/>
          <p:cNvPicPr/>
          <p:nvPr/>
        </p:nvPicPr>
        <p:blipFill>
          <a:blip r:embed="rId2"/>
          <a:stretch/>
        </p:blipFill>
        <p:spPr>
          <a:xfrm>
            <a:off x="3505320" y="4419720"/>
            <a:ext cx="17445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монтов Савва"/>
          <p:cNvPicPr/>
          <p:nvPr/>
        </p:nvPicPr>
        <p:blipFill>
          <a:blip r:embed="rId3"/>
          <a:stretch/>
        </p:blipFill>
        <p:spPr>
          <a:xfrm>
            <a:off x="7162920" y="380880"/>
            <a:ext cx="180000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аргомыжский"/>
          <p:cNvPicPr/>
          <p:nvPr/>
        </p:nvPicPr>
        <p:blipFill>
          <a:blip r:embed="rId4"/>
          <a:stretch/>
        </p:blipFill>
        <p:spPr>
          <a:xfrm>
            <a:off x="7086600" y="396252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231120"/>
            <a:ext cx="487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лзунов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Хренников"/>
          <p:cNvPicPr/>
          <p:nvPr/>
        </p:nvPicPr>
        <p:blipFill>
          <a:blip r:embed="rId3"/>
          <a:stretch/>
        </p:blipFill>
        <p:spPr>
          <a:xfrm>
            <a:off x="5410080" y="2895480"/>
            <a:ext cx="2210040" cy="2175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52280" y="226800"/>
            <a:ext cx="60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Могучая кучка"/>
          <p:cNvPicPr/>
          <p:nvPr/>
        </p:nvPicPr>
        <p:blipFill>
          <a:blip r:embed="rId2"/>
          <a:stretch/>
        </p:blipFill>
        <p:spPr>
          <a:xfrm>
            <a:off x="6095880" y="228600"/>
            <a:ext cx="2845080" cy="61722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8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